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A917-4C61-41A9-9766-7986DB0C5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66D3-E0BE-427C-AE83-3B08C985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8B1A-8F49-4807-9DCC-14AD51A0B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94F2-3D08-458A-8092-81696845B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6506-B093-41C8-ABBA-AE1AC6CA3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81E6-6BA5-4D9B-A42E-01013FD03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C89C-A788-4A20-948D-6714B51BB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799C-CD54-4ED9-B516-A0FD02FBC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B84B-1863-45BE-9B16-28E2289DF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F74D-E56C-40B9-98E5-79D6B6267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84D5-3CA7-45E4-A2F7-8E8D3DD53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AFE4-4506-4812-B8BE-344E54482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0189-FBAC-4AA7-86FE-3BF5D697E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AD21-82B3-40E9-9DEE-DE73CBC55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E2F3-8EE3-4E06-B6CD-3D26BDE2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2147-A6AA-40B4-BFF7-F9FDEF3E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CBDA-D8C7-401F-8AD7-6901A2733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7145-476D-467E-AE4C-C173604B7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67AC-5ABF-4C20-9320-5BA9B748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4240-3532-46AC-8585-CA9097F6E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3A36-D6B9-4705-8DE5-6DEA46916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14B-30C9-4C9B-88FA-99FB27CF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83A-1D92-4562-B100-7FD4571B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9E1-B463-4329-884F-7D63B631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25E-DD29-49F1-8DB3-CE3BC5D4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9A7-14E4-431C-B3D1-6B8A7F7E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08E-797F-4B07-AD59-47B724E1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12A-639D-41DA-86B2-714458A1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497-8CCF-409C-89D6-8FDEAB81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DC2-A6B2-47CC-9E54-6A2885C0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74C-862C-4455-9FE0-88FE29D7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6563-248C-41E8-B18B-C301B069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E69-8633-451C-9AE6-F7B3DE68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E31A-9070-4893-8BD8-780A5D18BAA4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000"/>
            </a:br>
            <a:r>
              <a:rPr b="0" lang="en-US" sz="4000" spc="-1" strike="noStrike">
                <a:solidFill>
                  <a:srgbClr val="2a475c"/>
                </a:solidFill>
                <a:latin typeface="Arial"/>
              </a:rPr>
              <a:t>Create a [bibliography, source list…] </a:t>
            </a:r>
            <a:endParaRPr b="0" lang="en-US" sz="40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6 Check_errors_buttons.png"/>
          <p:cNvPicPr/>
          <p:nvPr/>
        </p:nvPicPr>
        <p:blipFill>
          <a:blip r:embed="rId1"/>
          <a:stretch/>
        </p:blipFill>
        <p:spPr>
          <a:xfrm>
            <a:off x="11448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Oval 6"/>
          <p:cNvSpPr/>
          <p:nvPr/>
        </p:nvSpPr>
        <p:spPr>
          <a:xfrm>
            <a:off x="3733920" y="5410080"/>
            <a:ext cx="114300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57800" y="3886200"/>
            <a:ext cx="3581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When you’re done, check for errors…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9" name="Freeform 10"/>
          <p:cNvSpPr/>
          <p:nvPr/>
        </p:nvSpPr>
        <p:spPr>
          <a:xfrm>
            <a:off x="3048120" y="4572000"/>
            <a:ext cx="2146320" cy="106668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544" h="1488">
                <a:moveTo>
                  <a:pt x="1544" y="0"/>
                </a:moveTo>
                <a:cubicBezTo>
                  <a:pt x="924" y="164"/>
                  <a:pt x="304" y="328"/>
                  <a:pt x="152" y="576"/>
                </a:cubicBezTo>
                <a:cubicBezTo>
                  <a:pt x="0" y="824"/>
                  <a:pt x="552" y="1336"/>
                  <a:pt x="632" y="14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Oval 11"/>
          <p:cNvSpPr/>
          <p:nvPr/>
        </p:nvSpPr>
        <p:spPr>
          <a:xfrm>
            <a:off x="5181480" y="3505320"/>
            <a:ext cx="3657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6 Check_errors.png"/>
          <p:cNvPicPr/>
          <p:nvPr/>
        </p:nvPicPr>
        <p:blipFill>
          <a:blip r:embed="rId1"/>
          <a:stretch/>
        </p:blipFill>
        <p:spPr>
          <a:xfrm>
            <a:off x="150840" y="0"/>
            <a:ext cx="8842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90560" y="3123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d make changes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 Source List.png"/>
          <p:cNvPicPr/>
          <p:nvPr/>
        </p:nvPicPr>
        <p:blipFill>
          <a:blip r:embed="rId1"/>
          <a:stretch/>
        </p:blipFill>
        <p:spPr>
          <a:xfrm>
            <a:off x="144360" y="0"/>
            <a:ext cx="8855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96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Compile your working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91_Teacher_comment.png"/>
          <p:cNvPicPr/>
          <p:nvPr/>
        </p:nvPicPr>
        <p:blipFill>
          <a:blip r:embed="rId1"/>
          <a:stretch/>
        </p:blipFill>
        <p:spPr>
          <a:xfrm>
            <a:off x="131760" y="0"/>
            <a:ext cx="888048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5562720" y="3429000"/>
            <a:ext cx="29718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Share your list with [Teacher’s name]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Get comments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rove your work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Double Bracket 14"/>
          <p:cNvSpPr/>
          <p:nvPr/>
        </p:nvSpPr>
        <p:spPr>
          <a:xfrm>
            <a:off x="228600" y="1752480"/>
            <a:ext cx="6400800" cy="15242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Double Bracket 15"/>
          <p:cNvSpPr/>
          <p:nvPr/>
        </p:nvSpPr>
        <p:spPr>
          <a:xfrm>
            <a:off x="304920" y="5486400"/>
            <a:ext cx="3504960" cy="9144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1 Source List.png"/>
          <p:cNvPicPr/>
          <p:nvPr/>
        </p:nvPicPr>
        <p:blipFill>
          <a:blip r:embed="rId1"/>
          <a:stretch/>
        </p:blipFill>
        <p:spPr>
          <a:xfrm>
            <a:off x="144360" y="0"/>
            <a:ext cx="88552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7400" y="7596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Get expert help for tricky sources</a:t>
            </a:r>
            <a:endParaRPr b="0" lang="en-US" sz="28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91" name="Picture 13" descr="6 Ask_expert.png"/>
          <p:cNvPicPr/>
          <p:nvPr/>
        </p:nvPicPr>
        <p:blipFill>
          <a:blip r:embed="rId2"/>
          <a:stretch/>
        </p:blipFill>
        <p:spPr>
          <a:xfrm>
            <a:off x="2514600" y="1219320"/>
            <a:ext cx="4964040" cy="3841560"/>
          </a:xfrm>
          <a:prstGeom prst="rect">
            <a:avLst/>
          </a:prstGeom>
          <a:ln w="0">
            <a:noFill/>
          </a:ln>
        </p:spPr>
      </p:pic>
      <p:sp>
        <p:nvSpPr>
          <p:cNvPr id="92" name="Oval 8"/>
          <p:cNvSpPr/>
          <p:nvPr/>
        </p:nvSpPr>
        <p:spPr>
          <a:xfrm>
            <a:off x="7620120" y="2514600"/>
            <a:ext cx="1143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93" name="Straight Arrow Connector 8"/>
          <p:cNvCxnSpPr>
            <a:stCxn id="92" idx="2"/>
          </p:cNvCxnSpPr>
          <p:nvPr/>
        </p:nvCxnSpPr>
        <p:spPr>
          <a:xfrm flipH="1" flipV="1">
            <a:off x="3809520" y="2209320"/>
            <a:ext cx="3810960" cy="496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Other kids have asked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All this information is new to me …what is common knowledge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  <a:ea typeface="Arial"/>
              </a:rPr>
              <a:t>If I wrote it for another class, do I quote myself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  <a:ea typeface="Arial"/>
              </a:rPr>
              <a:t>What if I don’t have the page number because I returned the book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How do I do an in-text citation for my source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3"/>
          <p:cNvGrpSpPr/>
          <p:nvPr/>
        </p:nvGrpSpPr>
        <p:grpSpPr>
          <a:xfrm>
            <a:off x="0" y="0"/>
            <a:ext cx="9172440" cy="6475320"/>
            <a:chOff x="0" y="0"/>
            <a:chExt cx="9172440" cy="6475320"/>
          </a:xfrm>
        </p:grpSpPr>
        <p:pic>
          <p:nvPicPr>
            <p:cNvPr id="97" name="Picture 8" descr="analysis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72440" cy="61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Oval 5"/>
            <p:cNvSpPr/>
            <p:nvPr/>
          </p:nvSpPr>
          <p:spPr>
            <a:xfrm>
              <a:off x="5486400" y="272520"/>
              <a:ext cx="365760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>
              <a:off x="5867280" y="4021560"/>
              <a:ext cx="3276720" cy="408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>
              <a:off x="5257800" y="1839960"/>
              <a:ext cx="3886200" cy="477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  <p:pic>
          <p:nvPicPr>
            <p:cNvPr id="101" name="Picture 11" descr="analysis2f"/>
            <p:cNvPicPr/>
            <p:nvPr/>
          </p:nvPicPr>
          <p:blipFill>
            <a:blip r:embed="rId2"/>
            <a:stretch/>
          </p:blipFill>
          <p:spPr>
            <a:xfrm>
              <a:off x="12600" y="5981040"/>
              <a:ext cx="9118800" cy="4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Oval 12"/>
            <p:cNvSpPr/>
            <p:nvPr/>
          </p:nvSpPr>
          <p:spPr>
            <a:xfrm>
              <a:off x="4191120" y="5725080"/>
              <a:ext cx="4952880" cy="681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9520" y="6091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Analyze your list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72200" y="533160"/>
            <a:ext cx="27432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Format your list and export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05" name="Picture 4" descr="6 Print_doc.png"/>
          <p:cNvPicPr/>
          <p:nvPr/>
        </p:nvPicPr>
        <p:blipFill>
          <a:blip r:embed="rId1"/>
          <a:stretch/>
        </p:blipFill>
        <p:spPr>
          <a:xfrm>
            <a:off x="0" y="0"/>
            <a:ext cx="60706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6 Print_options.png"/>
          <p:cNvPicPr/>
          <p:nvPr/>
        </p:nvPicPr>
        <p:blipFill>
          <a:blip r:embed="rId2"/>
          <a:stretch/>
        </p:blipFill>
        <p:spPr>
          <a:xfrm>
            <a:off x="2397240" y="3581280"/>
            <a:ext cx="6594480" cy="27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portfolio3"/>
          <p:cNvPicPr/>
          <p:nvPr/>
        </p:nvPicPr>
        <p:blipFill>
          <a:blip r:embed="rId1"/>
          <a:stretch/>
        </p:blipFill>
        <p:spPr>
          <a:xfrm>
            <a:off x="-9360" y="762120"/>
            <a:ext cx="9153360" cy="6095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Keep all your lists!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More instructions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Specifically for this [essay, project…]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Use [MLA, APA or Chicago/Turabian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ite as you go (books, wikis, databases…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dd notes as you rea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hare your working list and notes with [name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feedback as you go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notes with tags and cluster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organize and store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Start your source list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486400" y="5943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more teaching ideas: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upport [at] noodletools [dot] 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6 Choosing_style.png"/>
          <p:cNvPicPr/>
          <p:nvPr/>
        </p:nvPicPr>
        <p:blipFill>
          <a:blip r:embed="rId1"/>
          <a:stretch/>
        </p:blipFill>
        <p:spPr>
          <a:xfrm>
            <a:off x="136440" y="0"/>
            <a:ext cx="8871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62520" y="2361960"/>
            <a:ext cx="49528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rt by choosing a style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4" name="Left Bracket 4"/>
          <p:cNvSpPr/>
          <p:nvPr/>
        </p:nvSpPr>
        <p:spPr>
          <a:xfrm>
            <a:off x="838080" y="2514600"/>
            <a:ext cx="304920" cy="2362320"/>
          </a:xfrm>
          <a:custGeom>
            <a:avLst/>
            <a:gdLst>
              <a:gd name="textAreaLeft" fmla="*/ 89640 w 304920"/>
              <a:gd name="textAreaRight" fmla="*/ 305280 w 304920"/>
              <a:gd name="textAreaTop" fmla="*/ 12600 h 2362320"/>
              <a:gd name="textAreaBottom" fmla="*/ 234972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6"/>
                  <a:pt x="0" y="232"/>
                </a:cubicBezTo>
                <a:lnTo>
                  <a:pt x="0" y="21368"/>
                </a:lnTo>
                <a:cubicBezTo>
                  <a:pt x="0" y="21484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6 Choosing_style.png"/>
          <p:cNvPicPr/>
          <p:nvPr/>
        </p:nvPicPr>
        <p:blipFill>
          <a:blip r:embed="rId1"/>
          <a:stretch/>
        </p:blipFill>
        <p:spPr>
          <a:xfrm>
            <a:off x="136440" y="0"/>
            <a:ext cx="88711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7315200" y="1828800"/>
            <a:ext cx="83808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52280" y="1981080"/>
            <a:ext cx="3429000" cy="228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6 Choosing_style_name.png"/>
          <p:cNvPicPr/>
          <p:nvPr/>
        </p:nvPicPr>
        <p:blipFill>
          <a:blip r:embed="rId1"/>
          <a:stretch/>
        </p:blipFill>
        <p:spPr>
          <a:xfrm>
            <a:off x="144360" y="0"/>
            <a:ext cx="88552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Oval 5"/>
          <p:cNvSpPr/>
          <p:nvPr/>
        </p:nvSpPr>
        <p:spPr>
          <a:xfrm>
            <a:off x="685800" y="4724280"/>
            <a:ext cx="236232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4648320" y="5105520"/>
            <a:ext cx="327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Name your lis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6 Choosing_source.png"/>
          <p:cNvPicPr/>
          <p:nvPr/>
        </p:nvPicPr>
        <p:blipFill>
          <a:blip r:embed="rId1"/>
          <a:stretch/>
        </p:blipFill>
        <p:spPr>
          <a:xfrm>
            <a:off x="141120" y="0"/>
            <a:ext cx="886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971800" y="761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What’s your source?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581280" y="281952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hoose the best match</a:t>
            </a:r>
            <a:br>
              <a:rPr sz="2400"/>
            </a:b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from the drop-down menu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9" descr="6 Fill_in_form.png"/>
          <p:cNvPicPr/>
          <p:nvPr/>
        </p:nvPicPr>
        <p:blipFill>
          <a:blip r:embed="rId1"/>
          <a:stretch/>
        </p:blipFill>
        <p:spPr>
          <a:xfrm>
            <a:off x="138240" y="0"/>
            <a:ext cx="8867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5480" y="4114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ut-and-paste to avoid spelling errors</a:t>
            </a:r>
            <a:endParaRPr b="0" lang="en-US" sz="2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971800" y="3581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Fill in the form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67" name="Elbow Connector 14"/>
          <p:cNvCxnSpPr/>
          <p:nvPr/>
        </p:nvCxnSpPr>
        <p:spPr>
          <a:xfrm flipV="1" rot="10800000">
            <a:off x="1751760" y="4952520"/>
            <a:ext cx="3125160" cy="144864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6 Help_field.png"/>
          <p:cNvPicPr/>
          <p:nvPr/>
        </p:nvPicPr>
        <p:blipFill>
          <a:blip r:embed="rId1"/>
          <a:stretch/>
        </p:blipFill>
        <p:spPr>
          <a:xfrm>
            <a:off x="0" y="0"/>
            <a:ext cx="88678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9056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Get help on each field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cxnSp>
        <p:nvCxnSpPr>
          <p:cNvPr id="70" name="Straight Arrow Connector 15"/>
          <p:cNvCxnSpPr/>
          <p:nvPr/>
        </p:nvCxnSpPr>
        <p:spPr>
          <a:xfrm flipH="1">
            <a:off x="4570200" y="2057040"/>
            <a:ext cx="2160" cy="764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e9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6 Help_field.png"/>
          <p:cNvPicPr/>
          <p:nvPr/>
        </p:nvPicPr>
        <p:blipFill>
          <a:blip r:embed="rId1"/>
          <a:stretch/>
        </p:blipFill>
        <p:spPr>
          <a:xfrm>
            <a:off x="138240" y="0"/>
            <a:ext cx="886752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6 Popup_help.png"/>
          <p:cNvPicPr/>
          <p:nvPr/>
        </p:nvPicPr>
        <p:blipFill>
          <a:blip r:embed="rId2"/>
          <a:stretch/>
        </p:blipFill>
        <p:spPr>
          <a:xfrm>
            <a:off x="152280" y="1600200"/>
            <a:ext cx="4572000" cy="4716360"/>
          </a:xfrm>
          <a:prstGeom prst="rect">
            <a:avLst/>
          </a:prstGeom>
          <a:ln w="0">
            <a:noFill/>
          </a:ln>
        </p:spPr>
      </p:pic>
      <p:sp>
        <p:nvSpPr>
          <p:cNvPr id="73" name="Oval 5"/>
          <p:cNvSpPr/>
          <p:nvPr/>
        </p:nvSpPr>
        <p:spPr>
          <a:xfrm>
            <a:off x="5334120" y="2895480"/>
            <a:ext cx="19047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2520" y="11426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Help pops up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5" name="Freeform 16"/>
          <p:cNvSpPr/>
          <p:nvPr/>
        </p:nvSpPr>
        <p:spPr>
          <a:xfrm>
            <a:off x="4114800" y="2133720"/>
            <a:ext cx="2997360" cy="761760"/>
          </a:xfrm>
          <a:custGeom>
            <a:avLst/>
            <a:gdLst>
              <a:gd name="textAreaLeft" fmla="*/ 0 w 2997360"/>
              <a:gd name="textAreaRight" fmla="*/ 2997720 w 299736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080" h="960">
                <a:moveTo>
                  <a:pt x="1824" y="960"/>
                </a:moveTo>
                <a:cubicBezTo>
                  <a:pt x="1952" y="576"/>
                  <a:pt x="2080" y="192"/>
                  <a:pt x="1776" y="96"/>
                </a:cubicBezTo>
                <a:cubicBezTo>
                  <a:pt x="1472" y="0"/>
                  <a:pt x="296" y="336"/>
                  <a:pt x="0" y="38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/>
  <dc:description/>
  <dc:language>en-US</dc:language>
  <cp:lastModifiedBy>jbaun</cp:lastModifiedBy>
  <dcterms:modified xsi:type="dcterms:W3CDTF">2009-08-27T00:53:06Z</dcterms:modified>
  <cp:revision>63</cp:revision>
  <dc:subject/>
  <dc:title>Creating a Bibliography or Source List</dc:title>
</cp:coreProperties>
</file>